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63B-FEC0-4774-A465-F2533A37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181-52CF-4A79-B746-610E3764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062-69C2-4D42-BBE3-1D1DBE3F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70C-EDA1-46C1-9F58-BE4B0A28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A97-19DD-4824-A12F-30BEA3E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749-E84C-4816-A1E1-10E9434D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881-3A81-4E37-A711-BAAAB0FD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428-A29D-43FF-BA3A-E339D94F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0D1-5307-4051-9D5F-2D476F6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C50-17F7-42EE-B9BB-9BF7BE4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C60-E0B3-4159-8312-D4865C34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FBB-B298-47E0-85D7-84A6BD9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F3A-4681-427A-B5C7-79EF63A7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ynagog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practices in the life of adh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3276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 Tamid (eternal light): a lamp directly above the holy ark which burns contin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mah:a platform from which the Torah is read and prayers are 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84472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lothing during w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ats and prayer shaw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ryone except unmarried women wears a hat in synagogue in order to show reverence to God. (And once unmarried women pass a certain age they usually wear a hat to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ewish men always wear hats when they are saying prayers which mention God's name. Observant Jewish men wear a hat almost all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ost common hat for men in the synagogue is a small round cap called a yarmulke (Yiddish) or a kippah (Hebrew), but an ordinary homburg or street hat will be acce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08560" y="2438280"/>
            <a:ext cx="383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2670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ult men (i.e. those over the age of 13) often wear a Tallit or prayer shawl for morning prayer. A Tallit has fringes (called tzitzit) on the edges to remind the wearer to observe God's commandments - as commanded by God in the Bible. There are several times in synagogue services when people kiss these fringes - for example when the tzitzit are men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_42078366_tying-tefillin4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8862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3920" y="914040"/>
            <a:ext cx="4038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r is the pathway to God, it is the way to know God and change 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agogue Service is the way for adherents to connect with their history and tradition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ing within community brings with it a collective responsibility that all are responsible for each other and sharing the same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 pray is to take notice of the wonder, to regain a sense of mystery that animates all being, the Devine margin in all attainments. Prayer is our humble answer to the inconceivable surprise of living. (Abraham Joshua Hesch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rah is central to the practices of Juda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ish worship is the opportunity to connect with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agogue is considered to be the house of prayer, a meeting house and a house of lea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rn synagogue combines in its physical structure and in its prayers and ceremonies, the memory of such places in the history of Juda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6000" y="1676520"/>
            <a:ext cx="356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nside the synag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ynagogue is the Jewish place of worship, but is also used as a place to study, and often as a community centre as well. Orthodox Jews often use the Yiddish word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shu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(pronounced shool) to refer to their synagogue. In the USA, synagogues are often called te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gre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Orthodox synagogues men and women sit separately, and everyone (except young girls) has their head covered. In a Reform synagogue men and women can sit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yer within community is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rayers can only be intoned within the presence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yan (a group of 10 adults over the age of 1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do not have to attend a synagogue to pr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76688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752f75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684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276360"/>
            <a:ext cx="4038480" cy="2849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agogue services can be led by a rabbi, a cantor or a member of the congre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thodox services are traditionally in Hebrew and Progressive services contain more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 Orthodox synagogues men and women sit separately, and everyone (except young girls) has their head covered. In a Reform synagogue men and women can sit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yer services are held 3 times a day, morning afternoon and evening each follows the tradition of one of the patriar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st important day of the week is the Shabbat which brings with it extra services.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43909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 basic synagogue tra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kenazi (referring to the practices of Jews from central, eastern and western Europe and their descend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phardi (referring to the practices of Jews from Spain and the Mediterranean and their descend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487440"/>
          <a:ext cx="402912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87440"/>
                    <a:ext cx="402912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65400" y="3429000"/>
            <a:ext cx="5178600" cy="328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51920"/>
            <a:ext cx="44956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may have different tunes and pronunciations of certain words but the prayers and generally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dox Judaism requires men to pray 3 times daily and 4 times on the Sabbath and most Jewish holidays. Orthodox women are required to pray daily with no specific time requi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ive communities regard prayer times as a matter of personal spiritual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concentration and intent are required for pr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y bones shall say, Lord, who is like You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salm 35: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rthodox Synag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ynplan1c" descr="Diagram of the synagogue layout Image Credit: Unknown"/>
          <p:cNvPicPr/>
          <p:nvPr/>
        </p:nvPicPr>
        <p:blipFill>
          <a:blip r:embed="rId1"/>
          <a:stretch/>
        </p:blipFill>
        <p:spPr>
          <a:xfrm>
            <a:off x="1905120" y="15238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ynagogues contain the following basic item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n Kodesh (holy ark) a cabinet in which the Torah Scrolls are kept. This is generally set to face the direction of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95480" y="4105440"/>
            <a:ext cx="6248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7:21:31Z</dcterms:created>
  <dc:creator>elonergan</dc:creator>
  <dc:description/>
  <dc:language>en-US</dc:language>
  <cp:lastModifiedBy>CEO</cp:lastModifiedBy>
  <dcterms:modified xsi:type="dcterms:W3CDTF">2011-02-10T03:46:40Z</dcterms:modified>
  <cp:revision>10</cp:revision>
  <dc:subject/>
  <dc:title>Synagogue Services</dc:title>
</cp:coreProperties>
</file>